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9E927CE-2BED-4453-B3D7-A2FBFB997B8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A4B0660D-5E41-4B59-842D-CC9BADB3F380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ea typeface="Tahoma" pitchFamily="34" charset="0"/>
              <a:cs typeface="Times New Roman" pitchFamily="18" charset="0"/>
            </a:rPr>
            <a:t>Introduction</a:t>
          </a:r>
        </a:p>
      </dgm:t>
    </dgm:pt>
    <dgm:pt modelId="{CFAEA700-974C-4916-B673-8AD67DC1A5BD}" type="par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84DEA51-C082-4605-BF67-B420CDAFA7B3}" type="sib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9E93B733-32C2-4DA0-AEDA-C4AFF145851C}">
      <dgm:prSet/>
      <dgm:spPr/>
      <dgm:t>
        <a:bodyPr/>
        <a:lstStyle/>
        <a:p>
          <a:r>
            <a:rPr lang="en-GB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tructure of DVR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E08CA659-5050-41AE-B05E-3BEA1E0AF87C}" type="par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7016C41-D322-4CA1-A6AA-7D1762D8A65F}" type="sib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BCB06DC6-16EA-4E7A-9ABE-0EF763C671DF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 based DVR</a:t>
          </a:r>
        </a:p>
      </dgm:t>
    </dgm:pt>
    <dgm:pt modelId="{F61B23DA-52A5-4993-B3F1-BDE5AB758EBC}" type="par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133F747D-FB59-408F-B308-93B861DC1A58}" type="sib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C410739F-535A-414A-9E2E-8EDF5C42EC92}">
      <dgm:prSet/>
      <dgm:spPr/>
      <dgm:t>
        <a:bodyPr/>
        <a:lstStyle/>
        <a:p>
          <a:r>
            <a:rPr lang="en-US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Conclusions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ED6CF1F-729B-4D9F-A062-1D923E42DE60}" type="par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3167E6BB-F144-4CD1-A930-625E99AB9E95}" type="sib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DD863C8-AF8E-4460-823D-7A055DDD3EAB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</a:t>
          </a:r>
        </a:p>
      </dgm:t>
    </dgm:pt>
    <dgm:pt modelId="{090B9EDE-4FE5-47FA-824A-7315F9E8C95E}" type="par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3D840C28-4E15-41C4-B49C-7FA5F0124E54}" type="sib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9DECB573-401A-4FB8-9180-824F5071BF22}" type="pres">
      <dgm:prSet presAssocID="{A9E927CE-2BED-4453-B3D7-A2FBFB997B8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4DC62C5C-FCE2-4FAA-9308-82FF21D190E6}" type="pres">
      <dgm:prSet presAssocID="{A4B0660D-5E41-4B59-842D-CC9BADB3F380}" presName="parentText" presStyleLbl="node1" presStyleIdx="0" presStyleCnt="5" custLinFactNeighborY="-92792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A2B1D797-E48B-44D3-8656-FEDDBF3A30BD}" type="pres">
      <dgm:prSet presAssocID="{784DEA51-C082-4605-BF67-B420CDAFA7B3}" presName="spacer" presStyleCnt="0"/>
      <dgm:spPr/>
    </dgm:pt>
    <dgm:pt modelId="{6BB590B9-4AD0-4F19-8B30-B89AE3399FA0}" type="pres">
      <dgm:prSet presAssocID="{9E93B733-32C2-4DA0-AEDA-C4AFF145851C}" presName="parentText" presStyleLbl="node1" presStyleIdx="1" presStyleCnt="5" custLinFactNeighborY="-7567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84AF8F7-CC25-4D5D-B4A0-537061A938DD}" type="pres">
      <dgm:prSet presAssocID="{07016C41-D322-4CA1-A6AA-7D1762D8A65F}" presName="spacer" presStyleCnt="0"/>
      <dgm:spPr/>
    </dgm:pt>
    <dgm:pt modelId="{F6CFB58A-8F47-4197-A394-E5919A270A8B}" type="pres">
      <dgm:prSet presAssocID="{7DD863C8-AF8E-4460-823D-7A055DDD3EAB}" presName="parentText" presStyleLbl="node1" presStyleIdx="2" presStyleCnt="5" custLinFactNeighborY="-58558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2EACFC7-29D6-4624-A37B-709C95917F46}" type="pres">
      <dgm:prSet presAssocID="{3D840C28-4E15-41C4-B49C-7FA5F0124E54}" presName="spacer" presStyleCnt="0"/>
      <dgm:spPr/>
    </dgm:pt>
    <dgm:pt modelId="{94FEB071-07C4-425A-982B-CFE746FB6ECF}" type="pres">
      <dgm:prSet presAssocID="{BCB06DC6-16EA-4E7A-9ABE-0EF763C671DF}" presName="parentText" presStyleLbl="node1" presStyleIdx="3" presStyleCnt="5" custLinFactNeighborY="-41441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F2EF92C8-D6E8-490A-A47D-3C91E2EBA248}" type="pres">
      <dgm:prSet presAssocID="{133F747D-FB59-408F-B308-93B861DC1A58}" presName="spacer" presStyleCnt="0"/>
      <dgm:spPr/>
    </dgm:pt>
    <dgm:pt modelId="{BF467D84-2C35-4A5C-A804-D716B95BFD17}" type="pres">
      <dgm:prSet presAssocID="{C410739F-535A-414A-9E2E-8EDF5C42EC92}" presName="parentText" presStyleLbl="node1" presStyleIdx="4" presStyleCnt="5" custLinFactNeighborY="-24324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280C9643-FA1C-4882-8A98-66A0D62166CC}" srcId="{A9E927CE-2BED-4453-B3D7-A2FBFB997B8D}" destId="{C410739F-535A-414A-9E2E-8EDF5C42EC92}" srcOrd="4" destOrd="0" parTransId="{0ED6CF1F-729B-4D9F-A062-1D923E42DE60}" sibTransId="{3167E6BB-F144-4CD1-A930-625E99AB9E95}"/>
    <dgm:cxn modelId="{E5AD646A-39BA-4A75-81BD-B388B1BC46DF}" srcId="{A9E927CE-2BED-4453-B3D7-A2FBFB997B8D}" destId="{7DD863C8-AF8E-4460-823D-7A055DDD3EAB}" srcOrd="2" destOrd="0" parTransId="{090B9EDE-4FE5-47FA-824A-7315F9E8C95E}" sibTransId="{3D840C28-4E15-41C4-B49C-7FA5F0124E54}"/>
    <dgm:cxn modelId="{F3F3AA9B-6C84-44CE-BD3F-2553CB72F209}" type="presOf" srcId="{C410739F-535A-414A-9E2E-8EDF5C42EC92}" destId="{BF467D84-2C35-4A5C-A804-D716B95BFD17}" srcOrd="0" destOrd="0" presId="urn:microsoft.com/office/officeart/2005/8/layout/vList2"/>
    <dgm:cxn modelId="{9BA307F4-3146-4E5F-9E9D-872EEDC6F0D6}" type="presOf" srcId="{A9E927CE-2BED-4453-B3D7-A2FBFB997B8D}" destId="{9DECB573-401A-4FB8-9180-824F5071BF22}" srcOrd="0" destOrd="0" presId="urn:microsoft.com/office/officeart/2005/8/layout/vList2"/>
    <dgm:cxn modelId="{8579943B-602C-48F1-B2A1-BF318F75A08F}" srcId="{A9E927CE-2BED-4453-B3D7-A2FBFB997B8D}" destId="{A4B0660D-5E41-4B59-842D-CC9BADB3F380}" srcOrd="0" destOrd="0" parTransId="{CFAEA700-974C-4916-B673-8AD67DC1A5BD}" sibTransId="{784DEA51-C082-4605-BF67-B420CDAFA7B3}"/>
    <dgm:cxn modelId="{64E2902A-CBBA-4DE1-857F-89662A80B664}" type="presOf" srcId="{9E93B733-32C2-4DA0-AEDA-C4AFF145851C}" destId="{6BB590B9-4AD0-4F19-8B30-B89AE3399FA0}" srcOrd="0" destOrd="0" presId="urn:microsoft.com/office/officeart/2005/8/layout/vList2"/>
    <dgm:cxn modelId="{AD9D16A6-9A9E-4023-A931-121F246B5C68}" srcId="{A9E927CE-2BED-4453-B3D7-A2FBFB997B8D}" destId="{9E93B733-32C2-4DA0-AEDA-C4AFF145851C}" srcOrd="1" destOrd="0" parTransId="{E08CA659-5050-41AE-B05E-3BEA1E0AF87C}" sibTransId="{07016C41-D322-4CA1-A6AA-7D1762D8A65F}"/>
    <dgm:cxn modelId="{AF421D3B-F958-477E-A2AE-D832A7236EA6}" srcId="{A9E927CE-2BED-4453-B3D7-A2FBFB997B8D}" destId="{BCB06DC6-16EA-4E7A-9ABE-0EF763C671DF}" srcOrd="3" destOrd="0" parTransId="{F61B23DA-52A5-4993-B3F1-BDE5AB758EBC}" sibTransId="{133F747D-FB59-408F-B308-93B861DC1A58}"/>
    <dgm:cxn modelId="{B3ED9B98-62C0-49F8-B9ED-C08F88FD4086}" type="presOf" srcId="{BCB06DC6-16EA-4E7A-9ABE-0EF763C671DF}" destId="{94FEB071-07C4-425A-982B-CFE746FB6ECF}" srcOrd="0" destOrd="0" presId="urn:microsoft.com/office/officeart/2005/8/layout/vList2"/>
    <dgm:cxn modelId="{289BF23A-A325-419D-8D5E-6C4ECE324A16}" type="presOf" srcId="{7DD863C8-AF8E-4460-823D-7A055DDD3EAB}" destId="{F6CFB58A-8F47-4197-A394-E5919A270A8B}" srcOrd="0" destOrd="0" presId="urn:microsoft.com/office/officeart/2005/8/layout/vList2"/>
    <dgm:cxn modelId="{B4B6EE62-C180-4ADC-A3A2-52B38FEE1C7F}" type="presOf" srcId="{A4B0660D-5E41-4B59-842D-CC9BADB3F380}" destId="{4DC62C5C-FCE2-4FAA-9308-82FF21D190E6}" srcOrd="0" destOrd="0" presId="urn:microsoft.com/office/officeart/2005/8/layout/vList2"/>
    <dgm:cxn modelId="{FE41E8F0-F009-4C3C-BD8C-2E4FB8C66721}" type="presParOf" srcId="{9DECB573-401A-4FB8-9180-824F5071BF22}" destId="{4DC62C5C-FCE2-4FAA-9308-82FF21D190E6}" srcOrd="0" destOrd="0" presId="urn:microsoft.com/office/officeart/2005/8/layout/vList2"/>
    <dgm:cxn modelId="{CBB031F9-B4F7-4D0E-AEEC-BCAAE42DF48C}" type="presParOf" srcId="{9DECB573-401A-4FB8-9180-824F5071BF22}" destId="{A2B1D797-E48B-44D3-8656-FEDDBF3A30BD}" srcOrd="1" destOrd="0" presId="urn:microsoft.com/office/officeart/2005/8/layout/vList2"/>
    <dgm:cxn modelId="{43FB8D7F-64B0-49E8-BA61-876D9A3CDB7E}" type="presParOf" srcId="{9DECB573-401A-4FB8-9180-824F5071BF22}" destId="{6BB590B9-4AD0-4F19-8B30-B89AE3399FA0}" srcOrd="2" destOrd="0" presId="urn:microsoft.com/office/officeart/2005/8/layout/vList2"/>
    <dgm:cxn modelId="{02444E77-C195-4F64-A7C1-D05C5A0CAB7B}" type="presParOf" srcId="{9DECB573-401A-4FB8-9180-824F5071BF22}" destId="{584AF8F7-CC25-4D5D-B4A0-537061A938DD}" srcOrd="3" destOrd="0" presId="urn:microsoft.com/office/officeart/2005/8/layout/vList2"/>
    <dgm:cxn modelId="{05420AB8-DEED-44D1-87FE-5011F1F73189}" type="presParOf" srcId="{9DECB573-401A-4FB8-9180-824F5071BF22}" destId="{F6CFB58A-8F47-4197-A394-E5919A270A8B}" srcOrd="4" destOrd="0" presId="urn:microsoft.com/office/officeart/2005/8/layout/vList2"/>
    <dgm:cxn modelId="{0774901A-18B7-4441-973A-631CEE0E7CD2}" type="presParOf" srcId="{9DECB573-401A-4FB8-9180-824F5071BF22}" destId="{32EACFC7-29D6-4624-A37B-709C95917F46}" srcOrd="5" destOrd="0" presId="urn:microsoft.com/office/officeart/2005/8/layout/vList2"/>
    <dgm:cxn modelId="{E711806E-DDB0-4C99-93FB-CCC9353195F3}" type="presParOf" srcId="{9DECB573-401A-4FB8-9180-824F5071BF22}" destId="{94FEB071-07C4-425A-982B-CFE746FB6ECF}" srcOrd="6" destOrd="0" presId="urn:microsoft.com/office/officeart/2005/8/layout/vList2"/>
    <dgm:cxn modelId="{811B6AF2-8B80-4489-A88A-8159212EE4C4}" type="presParOf" srcId="{9DECB573-401A-4FB8-9180-824F5071BF22}" destId="{F2EF92C8-D6E8-490A-A47D-3C91E2EBA248}" srcOrd="7" destOrd="0" presId="urn:microsoft.com/office/officeart/2005/8/layout/vList2"/>
    <dgm:cxn modelId="{65FF31EA-0023-4973-95CA-143D21321A87}" type="presParOf" srcId="{9DECB573-401A-4FB8-9180-824F5071BF22}" destId="{BF467D84-2C35-4A5C-A804-D716B95BFD17}" srcOrd="8" destOrd="0" presId="urn:microsoft.com/office/officeart/2005/8/layout/vList2"/>
  </dgm:cxnLst>
  <dgm:bg>
    <a:noFill/>
    <a:effectLst>
      <a:outerShdw blurRad="50800" dist="50800" dir="5400000" algn="ctr" rotWithShape="0">
        <a:schemeClr val="accent1">
          <a:lumMod val="75000"/>
        </a:schemeClr>
      </a:outerShdw>
    </a:effectLst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3DF-C4B4-4D3E-9757-47C3EC2F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7BD-0A37-4749-BFB9-38C03FB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5C0-A171-45C7-8285-FC41CB29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CF7-8B98-4D14-8E67-5B1300F3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3229-EC03-4517-8595-90FDCBEE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3DC4-9BD4-47FA-BCF2-577729E2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8B05-26FC-4C78-AA62-334F1A2F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0186-EC51-487C-B249-F42A5E23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290D-E361-4F41-AECF-DADDDD7D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93C-74A7-4FDD-AF55-73DF4F6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0A8E-A808-4F28-A7BB-A30A1F4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62E-E4A3-4F54-B18C-7372294B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782-5E4F-47B6-AA00-5372238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691F-1542-47B4-BAF1-095A9337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3E6A-1258-492F-837E-C3E718A6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EE3F-2D7B-4473-87C7-489AF3F2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7231-37F8-4CA4-ADC1-023D63A4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8288-5C45-4AE1-A0C1-E7864470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EBB4-4A52-4B49-8D4B-68A24277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A834-3E23-485B-90DD-85252CC8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9227-A0EB-4CB8-B34E-13CEA806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023B-97C0-4032-BE51-508EBC5E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8EE-3B66-489B-AB47-1EB1C51A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FE3F-331A-4E93-9FBC-BD69B7A0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4808-380B-4ABD-907F-FC68B11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6D24-EBBB-4DAB-99BC-8882B58A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18EE-6F23-44FE-8DC5-67F25B1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C9E5-5C49-4CE8-9615-F9957AC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D096-63D8-4DF5-98F8-9EE4CD9A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486E-DE00-49B4-9B9A-EB53B46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4DD6D-6B24-42B8-93D0-BC5B9876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0785-E7D3-409F-8402-DCE7C10B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6C6D-E124-4A2B-A3B4-C16E2D51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6A4-7E6A-454A-89BF-3140E0D8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AED9-686F-446E-92F8-7D7C26D6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DDD14-FB86-4F67-AF26-11A1CCD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C87F7-91BF-42AD-85A9-72CB07B9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49D4-131C-4191-B7CE-0B92DB05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BBB57-1456-482F-B402-F66E3CFE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ED4C-94B9-4A57-AEC8-B3D33A12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FFAE-901C-4E4E-B224-2A3F45FD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6C43E-90EA-420B-9C77-4AD53D20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A506-0F32-4AF2-A0BB-76423E13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B44-7210-4C16-9D25-3768226B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E86-C359-4E3A-BA4F-60932E9C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EFE-54EB-49AB-9E8A-D127DE0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DB2-EFBD-4979-BEBE-FF3D2C8B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EB9-92FD-4670-AE34-74F99B65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59B98277-6A1D-4132-865D-BA2A22194DF7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0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C967DE9F-239B-4D25-9D64-BEC0DC2B566C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7A9CC8C6-613D-47FF-8475-A683CCCD99FF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200" spc="-1" strike="noStrike">
                <a:solidFill>
                  <a:schemeClr val="hlink"/>
                </a:solidFill>
                <a:latin typeface="Times New Roman"/>
              </a:rPr>
              <a:t>Click to edit the title text format</a:t>
            </a: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E40DCE7D-EE2F-4938-BA00-53C521813A9D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9"/>
          <p:cNvSpPr/>
          <p:nvPr/>
        </p:nvSpPr>
        <p:spPr>
          <a:xfrm>
            <a:off x="685800" y="1676520"/>
            <a:ext cx="8152920" cy="4536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5" name="Rounded Rectangle 10"/>
          <p:cNvSpPr/>
          <p:nvPr/>
        </p:nvSpPr>
        <p:spPr>
          <a:xfrm>
            <a:off x="533520" y="1257840"/>
            <a:ext cx="8152920" cy="157068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spAutoFit/>
          </a:bodyPr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deling and Analysis of SVPW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Dynamic Voltage Rest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lowchart: Process 35"/>
          <p:cNvSpPr/>
          <p:nvPr/>
        </p:nvSpPr>
        <p:spPr>
          <a:xfrm>
            <a:off x="5334120" y="3809880"/>
            <a:ext cx="19047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Process 29"/>
          <p:cNvSpPr/>
          <p:nvPr/>
        </p:nvSpPr>
        <p:spPr>
          <a:xfrm>
            <a:off x="5257800" y="259092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Process 31"/>
          <p:cNvSpPr/>
          <p:nvPr/>
        </p:nvSpPr>
        <p:spPr>
          <a:xfrm>
            <a:off x="7620120" y="1143000"/>
            <a:ext cx="1294920" cy="169092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5250"/>
              </a:spcBef>
              <a:tabLst>
                <a:tab algn="l" pos="0"/>
              </a:tabLst>
            </a:pPr>
            <a:r>
              <a:rPr b="1" lang="en-US" sz="10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Process 33"/>
          <p:cNvSpPr/>
          <p:nvPr/>
        </p:nvSpPr>
        <p:spPr>
          <a:xfrm>
            <a:off x="8001000" y="2819520"/>
            <a:ext cx="99036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Process 37"/>
          <p:cNvSpPr/>
          <p:nvPr/>
        </p:nvSpPr>
        <p:spPr>
          <a:xfrm>
            <a:off x="3352680" y="548640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lowchart: Process 25"/>
          <p:cNvSpPr/>
          <p:nvPr/>
        </p:nvSpPr>
        <p:spPr>
          <a:xfrm>
            <a:off x="2514600" y="1295280"/>
            <a:ext cx="1371240" cy="262080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8300"/>
              </a:spcBef>
              <a:tabLst>
                <a:tab algn="l" pos="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power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EBD73CC-B656-4FFB-98D7-588E206531A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E6E3034-4E14-4B00-AC57-D9E3B73B33F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F96CD69-2817-43A3-A07F-F48FAD91744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6EDD19A-7DFD-4D59-A0A8-FD731A666F4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BF2F134-567C-453B-B4A0-6F573D5E886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1E62BA5-87CD-4CC2-8675-B8044C750E8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18D2C7A6-DEB2-4DB0-A8EC-16B9B7BC4E8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BFD83DD-35C5-4558-8A8F-242C69C2CFA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391160" cy="5409720"/>
          </a:xfrm>
          <a:prstGeom prst="rect">
            <a:avLst/>
          </a:prstGeom>
          <a:ln w="9525">
            <a:noFill/>
          </a:ln>
        </p:spPr>
      </p:pic>
      <p:sp>
        <p:nvSpPr>
          <p:cNvPr id="415" name="Flowchart: Process 23"/>
          <p:cNvSpPr/>
          <p:nvPr/>
        </p:nvSpPr>
        <p:spPr>
          <a:xfrm>
            <a:off x="1523880" y="2819520"/>
            <a:ext cx="9903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ular Callout 24"/>
          <p:cNvSpPr/>
          <p:nvPr/>
        </p:nvSpPr>
        <p:spPr>
          <a:xfrm>
            <a:off x="2286000" y="4876920"/>
            <a:ext cx="1218960" cy="405360"/>
          </a:xfrm>
          <a:prstGeom prst="wedgeRoundRectCallout">
            <a:avLst>
              <a:gd name="adj1" fmla="val -70495"/>
              <a:gd name="adj2" fmla="val -26821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ular Callout 26"/>
          <p:cNvSpPr/>
          <p:nvPr/>
        </p:nvSpPr>
        <p:spPr>
          <a:xfrm>
            <a:off x="1600200" y="4876920"/>
            <a:ext cx="1676160" cy="709200"/>
          </a:xfrm>
          <a:prstGeom prst="wedgeRoundRectCallout">
            <a:avLst>
              <a:gd name="adj1" fmla="val 63691"/>
              <a:gd name="adj2" fmla="val -17853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lowchart: Process 27"/>
          <p:cNvSpPr/>
          <p:nvPr/>
        </p:nvSpPr>
        <p:spPr>
          <a:xfrm>
            <a:off x="4343400" y="1295280"/>
            <a:ext cx="129492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ular Callout 28"/>
          <p:cNvSpPr/>
          <p:nvPr/>
        </p:nvSpPr>
        <p:spPr>
          <a:xfrm>
            <a:off x="5943600" y="1600200"/>
            <a:ext cx="1676160" cy="709200"/>
          </a:xfrm>
          <a:prstGeom prst="wedgeRoundRectCallout">
            <a:avLst>
              <a:gd name="adj1" fmla="val -66612"/>
              <a:gd name="adj2" fmla="val -55987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ounded Rectangular Callout 30"/>
          <p:cNvSpPr/>
          <p:nvPr/>
        </p:nvSpPr>
        <p:spPr>
          <a:xfrm>
            <a:off x="3505320" y="1981080"/>
            <a:ext cx="1676160" cy="709200"/>
          </a:xfrm>
          <a:prstGeom prst="wedgeRoundRectCallout">
            <a:avLst>
              <a:gd name="adj1" fmla="val 52327"/>
              <a:gd name="adj2" fmla="val 9142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ular Callout 32"/>
          <p:cNvSpPr/>
          <p:nvPr/>
        </p:nvSpPr>
        <p:spPr>
          <a:xfrm>
            <a:off x="4800600" y="838080"/>
            <a:ext cx="2361960" cy="709200"/>
          </a:xfrm>
          <a:prstGeom prst="wedgeRoundRectCallout">
            <a:avLst>
              <a:gd name="adj1" fmla="val 68066"/>
              <a:gd name="adj2" fmla="val 14470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ular Callout 34"/>
          <p:cNvSpPr/>
          <p:nvPr/>
        </p:nvSpPr>
        <p:spPr>
          <a:xfrm>
            <a:off x="7391520" y="5105520"/>
            <a:ext cx="1066320" cy="405360"/>
          </a:xfrm>
          <a:prstGeom prst="wedgeRoundRectCallout">
            <a:avLst>
              <a:gd name="adj1" fmla="val 64016"/>
              <a:gd name="adj2" fmla="val -30862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ular Callout 36"/>
          <p:cNvSpPr/>
          <p:nvPr/>
        </p:nvSpPr>
        <p:spPr>
          <a:xfrm>
            <a:off x="7086600" y="5334120"/>
            <a:ext cx="2057040" cy="709200"/>
          </a:xfrm>
          <a:prstGeom prst="wedgeRoundRectCallout">
            <a:avLst>
              <a:gd name="adj1" fmla="val -63761"/>
              <a:gd name="adj2" fmla="val -10615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jection trans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ounded Rectangular Callout 38"/>
          <p:cNvSpPr/>
          <p:nvPr/>
        </p:nvSpPr>
        <p:spPr>
          <a:xfrm>
            <a:off x="1752480" y="4267080"/>
            <a:ext cx="1828440" cy="709200"/>
          </a:xfrm>
          <a:prstGeom prst="wedgeRoundRectCallout">
            <a:avLst>
              <a:gd name="adj1" fmla="val 104600"/>
              <a:gd name="adj2" fmla="val 1162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 phas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ight Arrow 39"/>
          <p:cNvSpPr/>
          <p:nvPr/>
        </p:nvSpPr>
        <p:spPr>
          <a:xfrm>
            <a:off x="2743200" y="5791320"/>
            <a:ext cx="596880" cy="549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6" name="TextBox 40"/>
          <p:cNvSpPr/>
          <p:nvPr/>
        </p:nvSpPr>
        <p:spPr>
          <a:xfrm>
            <a:off x="1452240" y="5715000"/>
            <a:ext cx="127836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280"/>
                            </p:stCondLst>
                            <p:childTnLst>
                              <p:par>
                                <p:cTn id="8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control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50DB93D-2B36-48C8-9A47-CA1943B11FF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9491926-AB61-461E-B119-C6889865448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79A89B0-39A5-4D92-952F-EB0685C0849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29F6681-C2F3-4B63-A3F4-9A05841F499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196F825-1DF0-474C-8CAC-E794CCB8FC5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5C46D57-1E4B-471F-9867-C6AEB3E3C57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5F0F717-51C0-4A43-8679-5ECAC41388A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1E85C60-F207-4442-A305-F56AFC797AD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1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781320" cy="2895120"/>
          </a:xfrm>
          <a:prstGeom prst="rect">
            <a:avLst/>
          </a:prstGeom>
          <a:ln w="9525">
            <a:noFill/>
          </a:ln>
        </p:spPr>
      </p:pic>
      <p:sp>
        <p:nvSpPr>
          <p:cNvPr id="440" name="TextBox 43"/>
          <p:cNvSpPr/>
          <p:nvPr/>
        </p:nvSpPr>
        <p:spPr>
          <a:xfrm>
            <a:off x="7242480" y="5334120"/>
            <a:ext cx="100404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urved Left Arrow 46"/>
          <p:cNvSpPr/>
          <p:nvPr/>
        </p:nvSpPr>
        <p:spPr>
          <a:xfrm>
            <a:off x="8229600" y="4343400"/>
            <a:ext cx="731160" cy="155412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  <a:tabLst>
                <a:tab algn="l" pos="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47"/>
          <p:cNvSpPr/>
          <p:nvPr/>
        </p:nvSpPr>
        <p:spPr>
          <a:xfrm>
            <a:off x="7418160" y="4343400"/>
            <a:ext cx="59868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ve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9"/>
          <p:cNvSpPr/>
          <p:nvPr/>
        </p:nvSpPr>
        <p:spPr>
          <a:xfrm>
            <a:off x="3733920" y="3886200"/>
            <a:ext cx="51120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ular Callout 51"/>
          <p:cNvSpPr/>
          <p:nvPr/>
        </p:nvSpPr>
        <p:spPr>
          <a:xfrm>
            <a:off x="1371600" y="5486400"/>
            <a:ext cx="2361960" cy="835920"/>
          </a:xfrm>
          <a:prstGeom prst="wedgeRoundRectCallout">
            <a:avLst>
              <a:gd name="adj1" fmla="val -17443"/>
              <a:gd name="adj2" fmla="val -25521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ular Callout 52"/>
          <p:cNvSpPr/>
          <p:nvPr/>
        </p:nvSpPr>
        <p:spPr>
          <a:xfrm>
            <a:off x="1447920" y="1295280"/>
            <a:ext cx="2209320" cy="835920"/>
          </a:xfrm>
          <a:prstGeom prst="wedgeRoundRectCallout">
            <a:avLst>
              <a:gd name="adj1" fmla="val 26106"/>
              <a:gd name="adj2" fmla="val 1279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 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3"/>
          <p:cNvSpPr/>
          <p:nvPr/>
        </p:nvSpPr>
        <p:spPr>
          <a:xfrm>
            <a:off x="3657600" y="2057400"/>
            <a:ext cx="83772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ounded Rectangular Callout 54"/>
          <p:cNvSpPr/>
          <p:nvPr/>
        </p:nvSpPr>
        <p:spPr>
          <a:xfrm>
            <a:off x="3733920" y="1371600"/>
            <a:ext cx="990360" cy="405360"/>
          </a:xfrm>
          <a:prstGeom prst="wedgeRoundRectCallout">
            <a:avLst>
              <a:gd name="adj1" fmla="val -20048"/>
              <a:gd name="adj2" fmla="val 1955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ular Callout 55"/>
          <p:cNvSpPr/>
          <p:nvPr/>
        </p:nvSpPr>
        <p:spPr>
          <a:xfrm>
            <a:off x="3809880" y="5562720"/>
            <a:ext cx="1752120" cy="709200"/>
          </a:xfrm>
          <a:prstGeom prst="wedgeRoundRectCallout">
            <a:avLst>
              <a:gd name="adj1" fmla="val -29762"/>
              <a:gd name="adj2" fmla="val -21258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LL to generat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ular Callout 56"/>
          <p:cNvSpPr/>
          <p:nvPr/>
        </p:nvSpPr>
        <p:spPr>
          <a:xfrm>
            <a:off x="4724280" y="1371600"/>
            <a:ext cx="990360" cy="405360"/>
          </a:xfrm>
          <a:prstGeom prst="wedgeRoundRectCallout">
            <a:avLst>
              <a:gd name="adj1" fmla="val -54984"/>
              <a:gd name="adj2" fmla="val 136532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ular Callout 58"/>
          <p:cNvSpPr/>
          <p:nvPr/>
        </p:nvSpPr>
        <p:spPr>
          <a:xfrm>
            <a:off x="5791320" y="1295280"/>
            <a:ext cx="2209320" cy="835920"/>
          </a:xfrm>
          <a:prstGeom prst="wedgeRoundRectCallout">
            <a:avLst>
              <a:gd name="adj1" fmla="val -66136"/>
              <a:gd name="adj2" fmla="val 13017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q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ular Callout 59"/>
          <p:cNvSpPr/>
          <p:nvPr/>
        </p:nvSpPr>
        <p:spPr>
          <a:xfrm>
            <a:off x="4724280" y="4495680"/>
            <a:ext cx="1752120" cy="1013040"/>
          </a:xfrm>
          <a:prstGeom prst="wedgeRoundRectCallout">
            <a:avLst>
              <a:gd name="adj1" fmla="val -47153"/>
              <a:gd name="adj2" fmla="val -841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30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ular Callout 60"/>
          <p:cNvSpPr/>
          <p:nvPr/>
        </p:nvSpPr>
        <p:spPr>
          <a:xfrm>
            <a:off x="7162920" y="2286000"/>
            <a:ext cx="1752120" cy="1013040"/>
          </a:xfrm>
          <a:prstGeom prst="wedgeRoundRectCallout">
            <a:avLst>
              <a:gd name="adj1" fmla="val -109472"/>
              <a:gd name="adj2" fmla="val -834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√3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ular Callout 61"/>
          <p:cNvSpPr/>
          <p:nvPr/>
        </p:nvSpPr>
        <p:spPr>
          <a:xfrm>
            <a:off x="4800600" y="4419720"/>
            <a:ext cx="1752120" cy="1013040"/>
          </a:xfrm>
          <a:prstGeom prst="wedgeRoundRectCallout">
            <a:avLst>
              <a:gd name="adj1" fmla="val 53571"/>
              <a:gd name="adj2" fmla="val -14545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PWM to generate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ular Callout 62"/>
          <p:cNvSpPr/>
          <p:nvPr/>
        </p:nvSpPr>
        <p:spPr>
          <a:xfrm>
            <a:off x="8077320" y="2133720"/>
            <a:ext cx="837720" cy="405360"/>
          </a:xfrm>
          <a:prstGeom prst="wedgeRoundRectCallout">
            <a:avLst>
              <a:gd name="adj1" fmla="val -199157"/>
              <a:gd name="adj2" fmla="val 49508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ular Callout 63"/>
          <p:cNvSpPr/>
          <p:nvPr/>
        </p:nvSpPr>
        <p:spPr>
          <a:xfrm>
            <a:off x="5638680" y="5715000"/>
            <a:ext cx="1218960" cy="709200"/>
          </a:xfrm>
          <a:prstGeom prst="wedgeRoundRectCallout">
            <a:avLst>
              <a:gd name="adj1" fmla="val 54631"/>
              <a:gd name="adj2" fmla="val -17293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ular Callout 64"/>
          <p:cNvSpPr/>
          <p:nvPr/>
        </p:nvSpPr>
        <p:spPr>
          <a:xfrm>
            <a:off x="7772400" y="3429000"/>
            <a:ext cx="1371240" cy="405360"/>
          </a:xfrm>
          <a:prstGeom prst="wedgeRoundRectCallout">
            <a:avLst>
              <a:gd name="adj1" fmla="val -49073"/>
              <a:gd name="adj2" fmla="val 97460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360"/>
                            </p:stCondLst>
                            <p:childTnLst>
                              <p:par>
                                <p:cTn id="10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5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571640" cy="3952440"/>
          </a:xfrm>
          <a:prstGeom prst="rect">
            <a:avLst/>
          </a:prstGeom>
          <a:ln w="9525">
            <a:noFill/>
          </a:ln>
        </p:spPr>
      </p:pic>
      <p:sp>
        <p:nvSpPr>
          <p:cNvPr id="45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EBF5DBE-A172-409B-91D3-2852FEA4D34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CAEEF17-E5FF-4461-88E4-8ECFDCF92FE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8CB573E-51B6-424D-951C-0A1A8008B60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DFA3EBA-F2BC-4EC4-A8EC-464F619F6EB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26D75A4-4E21-4B2C-8866-126FEC21D77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1D08F3F-99C6-44DA-B2F7-4496668A6E1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A360713-9DB1-47A2-93DD-12EAA43E44C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3B95F59B-ECFD-44D9-A823-E8BEDFD1E1A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733920" y="380880"/>
            <a:ext cx="5409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5"/>
          <p:cNvSpPr/>
          <p:nvPr/>
        </p:nvSpPr>
        <p:spPr>
          <a:xfrm>
            <a:off x="1523880" y="990720"/>
            <a:ext cx="7467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load voltage: is the phase voltage of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DVR voltage : is the injected voltage in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the load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B4E36F9-0437-49EC-B396-67BCDEAFF79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7874204-5613-4BCF-91BB-10D5BBE6423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9B78BC6-0C8C-4623-80D8-D26C1B49CE1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6A05841-AFDB-416F-8616-384178F8398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2F20510-DAB0-4907-8CC2-31879B5DF25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69C00EA-7255-41DA-930A-1E66A4B0169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B75A03E-7CD7-444D-9545-B99D141AC26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5B198D1-18FA-4D5B-85C6-4588241C555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E74202A-A890-45BC-A6A8-460AC8B7954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urved Down Arrow 92"/>
          <p:cNvSpPr/>
          <p:nvPr/>
        </p:nvSpPr>
        <p:spPr>
          <a:xfrm>
            <a:off x="510552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1" name="TextBox 93"/>
          <p:cNvSpPr/>
          <p:nvPr/>
        </p:nvSpPr>
        <p:spPr>
          <a:xfrm>
            <a:off x="4886640" y="2590920"/>
            <a:ext cx="1522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DV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urved Down Arrow 94"/>
          <p:cNvSpPr/>
          <p:nvPr/>
        </p:nvSpPr>
        <p:spPr>
          <a:xfrm>
            <a:off x="617220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3" name="TextBox 95"/>
          <p:cNvSpPr/>
          <p:nvPr/>
        </p:nvSpPr>
        <p:spPr>
          <a:xfrm>
            <a:off x="6563520" y="2666880"/>
            <a:ext cx="1644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Load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68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720"/>
                            </p:stCondLst>
                            <p:childTnLst>
                              <p:par>
                                <p:cTn id="1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480"/>
                            </p:stCondLst>
                            <p:childTnLst>
                              <p:par>
                                <p:cTn id="1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839633E-4806-46B0-94D9-CD3415BB452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5A81847-3748-4813-B27E-50063EC232C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B328A46-4752-43AC-9EEB-687B71EF166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D9F9912-7A36-410F-B525-DA33EEC4A8E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85C3AD5-AA3C-4BEC-8C39-EAE943D9B06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A8F9778-53E5-434F-9804-1233FC70E1F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FD0160E2-EA70-4BD9-9677-B52D9F37E47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60DB272-1CFA-48DA-9349-8DF695D1DCF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493" name="Object 14"/>
          <p:cNvGraphicFramePr/>
          <p:nvPr/>
        </p:nvGraphicFramePr>
        <p:xfrm>
          <a:off x="3505320" y="838080"/>
          <a:ext cx="3304440" cy="251424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49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838080"/>
                    <a:ext cx="330444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5" name="Group 8"/>
          <p:cNvGrpSpPr/>
          <p:nvPr/>
        </p:nvGrpSpPr>
        <p:grpSpPr>
          <a:xfrm>
            <a:off x="1447920" y="1371600"/>
            <a:ext cx="2061000" cy="463680"/>
            <a:chOff x="1447920" y="1371600"/>
            <a:chExt cx="2061000" cy="463680"/>
          </a:xfrm>
        </p:grpSpPr>
        <p:sp>
          <p:nvSpPr>
            <p:cNvPr id="496" name="AutoShape 9"/>
            <p:cNvSpPr/>
            <p:nvPr/>
          </p:nvSpPr>
          <p:spPr>
            <a:xfrm>
              <a:off x="2679840" y="13716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1447920" y="14248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1"/>
          <p:cNvGrpSpPr/>
          <p:nvPr/>
        </p:nvGrpSpPr>
        <p:grpSpPr>
          <a:xfrm>
            <a:off x="1447920" y="2057400"/>
            <a:ext cx="2061000" cy="465480"/>
            <a:chOff x="1447920" y="2057400"/>
            <a:chExt cx="2061000" cy="465480"/>
          </a:xfrm>
        </p:grpSpPr>
        <p:sp>
          <p:nvSpPr>
            <p:cNvPr id="499" name="AutoShape 12"/>
            <p:cNvSpPr/>
            <p:nvPr/>
          </p:nvSpPr>
          <p:spPr>
            <a:xfrm>
              <a:off x="2679840" y="20574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00" name="AutoShape 13"/>
            <p:cNvSpPr/>
            <p:nvPr/>
          </p:nvSpPr>
          <p:spPr>
            <a:xfrm>
              <a:off x="1447920" y="21110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63"/>
          <p:cNvGrpSpPr/>
          <p:nvPr/>
        </p:nvGrpSpPr>
        <p:grpSpPr>
          <a:xfrm>
            <a:off x="4876920" y="1752480"/>
            <a:ext cx="914040" cy="1065600"/>
            <a:chOff x="4876920" y="1752480"/>
            <a:chExt cx="914040" cy="1065600"/>
          </a:xfrm>
        </p:grpSpPr>
        <p:cxnSp>
          <p:nvCxnSpPr>
            <p:cNvPr id="502" name="AutoShape 6"/>
            <p:cNvCxnSpPr/>
            <p:nvPr/>
          </p:nvCxnSpPr>
          <p:spPr>
            <a:xfrm flipV="1">
              <a:off x="5333760" y="1752480"/>
              <a:ext cx="360" cy="72108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03" name="Flowchart: Alternate Process 65"/>
            <p:cNvSpPr/>
            <p:nvPr/>
          </p:nvSpPr>
          <p:spPr>
            <a:xfrm>
              <a:off x="4876920" y="251460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66"/>
          <p:cNvSpPr/>
          <p:nvPr/>
        </p:nvSpPr>
        <p:spPr>
          <a:xfrm>
            <a:off x="152388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7"/>
          <p:cNvSpPr/>
          <p:nvPr/>
        </p:nvSpPr>
        <p:spPr>
          <a:xfrm>
            <a:off x="480060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9"/>
          <p:cNvSpPr/>
          <p:nvPr/>
        </p:nvSpPr>
        <p:spPr>
          <a:xfrm>
            <a:off x="167652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0"/>
          <p:cNvSpPr/>
          <p:nvPr/>
        </p:nvSpPr>
        <p:spPr>
          <a:xfrm>
            <a:off x="495288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Object 3"/>
          <p:cNvGraphicFramePr/>
          <p:nvPr/>
        </p:nvGraphicFramePr>
        <p:xfrm>
          <a:off x="3477960" y="4114800"/>
          <a:ext cx="3415320" cy="251424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960" y="4114800"/>
                    <a:ext cx="341532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0" name="Group 8"/>
          <p:cNvGrpSpPr/>
          <p:nvPr/>
        </p:nvGrpSpPr>
        <p:grpSpPr>
          <a:xfrm>
            <a:off x="1676520" y="4724280"/>
            <a:ext cx="2061000" cy="463680"/>
            <a:chOff x="1676520" y="4724280"/>
            <a:chExt cx="2061000" cy="463680"/>
          </a:xfrm>
        </p:grpSpPr>
        <p:sp>
          <p:nvSpPr>
            <p:cNvPr id="511" name="AutoShape 9"/>
            <p:cNvSpPr/>
            <p:nvPr/>
          </p:nvSpPr>
          <p:spPr>
            <a:xfrm>
              <a:off x="2908440" y="4724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2" name="AutoShape 10"/>
            <p:cNvSpPr/>
            <p:nvPr/>
          </p:nvSpPr>
          <p:spPr>
            <a:xfrm>
              <a:off x="1676520" y="4777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1"/>
          <p:cNvGrpSpPr/>
          <p:nvPr/>
        </p:nvGrpSpPr>
        <p:grpSpPr>
          <a:xfrm>
            <a:off x="1676520" y="5334120"/>
            <a:ext cx="2061000" cy="465480"/>
            <a:chOff x="1676520" y="5334120"/>
            <a:chExt cx="2061000" cy="465480"/>
          </a:xfrm>
        </p:grpSpPr>
        <p:sp>
          <p:nvSpPr>
            <p:cNvPr id="514" name="AutoShape 12"/>
            <p:cNvSpPr/>
            <p:nvPr/>
          </p:nvSpPr>
          <p:spPr>
            <a:xfrm>
              <a:off x="2908440" y="5334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5" name="AutoShape 13"/>
            <p:cNvSpPr/>
            <p:nvPr/>
          </p:nvSpPr>
          <p:spPr>
            <a:xfrm>
              <a:off x="1676520" y="5387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400"/>
                            </p:stCondLst>
                            <p:childTnLst>
                              <p:par>
                                <p:cTn id="1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6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82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Object 3"/>
          <p:cNvGraphicFramePr/>
          <p:nvPr/>
        </p:nvGraphicFramePr>
        <p:xfrm>
          <a:off x="3505320" y="762120"/>
          <a:ext cx="3352320" cy="256176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5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3352320" cy="25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07FADBD-F9F1-4FE8-9E8C-E1B1A8F94DA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553D95D-0471-4E46-B579-B1652E31E84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94C64B4-CA9E-40FD-A6F3-1C636069560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717371A-D52A-4B05-A391-9AC8D2D699F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644C072-1DBD-4561-B47F-C0258F52CC6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E09B254-08E1-4F1F-8336-3A2F8810621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CE6A0C2-F937-4EB4-8645-BDBAC4FC389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CB03A5FC-2E88-49C6-AC19-9DF133FE23B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676520" y="1295280"/>
            <a:ext cx="2061000" cy="463680"/>
            <a:chOff x="1676520" y="1295280"/>
            <a:chExt cx="2061000" cy="463680"/>
          </a:xfrm>
        </p:grpSpPr>
        <p:sp>
          <p:nvSpPr>
            <p:cNvPr id="528" name="AutoShape 9"/>
            <p:cNvSpPr/>
            <p:nvPr/>
          </p:nvSpPr>
          <p:spPr>
            <a:xfrm>
              <a:off x="2908440" y="1295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29" name="AutoShape 10"/>
            <p:cNvSpPr/>
            <p:nvPr/>
          </p:nvSpPr>
          <p:spPr>
            <a:xfrm>
              <a:off x="1676520" y="1348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1"/>
          <p:cNvGrpSpPr/>
          <p:nvPr/>
        </p:nvGrpSpPr>
        <p:grpSpPr>
          <a:xfrm>
            <a:off x="1676520" y="1905120"/>
            <a:ext cx="2061000" cy="465480"/>
            <a:chOff x="1676520" y="1905120"/>
            <a:chExt cx="2061000" cy="465480"/>
          </a:xfrm>
        </p:grpSpPr>
        <p:sp>
          <p:nvSpPr>
            <p:cNvPr id="531" name="AutoShape 12"/>
            <p:cNvSpPr/>
            <p:nvPr/>
          </p:nvSpPr>
          <p:spPr>
            <a:xfrm>
              <a:off x="2908440" y="1905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32" name="AutoShape 13"/>
            <p:cNvSpPr/>
            <p:nvPr/>
          </p:nvSpPr>
          <p:spPr>
            <a:xfrm>
              <a:off x="1676520" y="1958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63"/>
          <p:cNvGrpSpPr/>
          <p:nvPr/>
        </p:nvGrpSpPr>
        <p:grpSpPr>
          <a:xfrm>
            <a:off x="4800600" y="1752480"/>
            <a:ext cx="914040" cy="902520"/>
            <a:chOff x="4800600" y="1752480"/>
            <a:chExt cx="914040" cy="902520"/>
          </a:xfrm>
        </p:grpSpPr>
        <p:cxnSp>
          <p:nvCxnSpPr>
            <p:cNvPr id="534" name="AutoShape 6"/>
            <p:cNvCxnSpPr/>
            <p:nvPr/>
          </p:nvCxnSpPr>
          <p:spPr>
            <a:xfrm flipV="1">
              <a:off x="5257800" y="1752480"/>
              <a:ext cx="360" cy="56664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35" name="Flowchart: Alternate Process 65"/>
            <p:cNvSpPr/>
            <p:nvPr/>
          </p:nvSpPr>
          <p:spPr>
            <a:xfrm>
              <a:off x="4800600" y="235152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66"/>
          <p:cNvSpPr/>
          <p:nvPr/>
        </p:nvSpPr>
        <p:spPr>
          <a:xfrm>
            <a:off x="152388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7"/>
          <p:cNvSpPr/>
          <p:nvPr/>
        </p:nvSpPr>
        <p:spPr>
          <a:xfrm>
            <a:off x="480060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540" name="Object 7"/>
          <p:cNvGraphicFramePr/>
          <p:nvPr/>
        </p:nvGraphicFramePr>
        <p:xfrm>
          <a:off x="3581280" y="3962520"/>
          <a:ext cx="3218400" cy="259056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962520"/>
                    <a:ext cx="3218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2" name="Group 8"/>
          <p:cNvGrpSpPr/>
          <p:nvPr/>
        </p:nvGrpSpPr>
        <p:grpSpPr>
          <a:xfrm>
            <a:off x="1676520" y="4572000"/>
            <a:ext cx="2061000" cy="463680"/>
            <a:chOff x="1676520" y="4572000"/>
            <a:chExt cx="2061000" cy="463680"/>
          </a:xfrm>
        </p:grpSpPr>
        <p:sp>
          <p:nvSpPr>
            <p:cNvPr id="543" name="AutoShape 9"/>
            <p:cNvSpPr/>
            <p:nvPr/>
          </p:nvSpPr>
          <p:spPr>
            <a:xfrm>
              <a:off x="2908440" y="45720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4" name="AutoShape 10"/>
            <p:cNvSpPr/>
            <p:nvPr/>
          </p:nvSpPr>
          <p:spPr>
            <a:xfrm>
              <a:off x="1676520" y="46252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1676520" y="5257800"/>
            <a:ext cx="2061000" cy="465480"/>
            <a:chOff x="1676520" y="5257800"/>
            <a:chExt cx="2061000" cy="465480"/>
          </a:xfrm>
        </p:grpSpPr>
        <p:sp>
          <p:nvSpPr>
            <p:cNvPr id="546" name="AutoShape 12"/>
            <p:cNvSpPr/>
            <p:nvPr/>
          </p:nvSpPr>
          <p:spPr>
            <a:xfrm>
              <a:off x="2908440" y="52578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7" name="AutoShape 13"/>
            <p:cNvSpPr/>
            <p:nvPr/>
          </p:nvSpPr>
          <p:spPr>
            <a:xfrm>
              <a:off x="1676520" y="53114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ctangle 53"/>
          <p:cNvSpPr/>
          <p:nvPr/>
        </p:nvSpPr>
        <p:spPr>
          <a:xfrm>
            <a:off x="152388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5"/>
          <p:cNvSpPr/>
          <p:nvPr/>
        </p:nvSpPr>
        <p:spPr>
          <a:xfrm>
            <a:off x="480060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75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275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F016246-9F13-4EAD-89AC-FB56DB15220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325F28A-98C8-48C5-813C-D0E2345F5AD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9B2D858-123C-4E66-8726-93FFFC394C6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30472E4-88C5-46F1-A5B6-07190CA3B2C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5283A7D-8DEB-4115-B4BD-27AE1788183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553A212-2855-4807-9C8F-AC98E211215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88D5D9A4-44F1-471A-BAEC-E74373BE4A5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69C8A49-647D-4FCA-BB41-9DE6169FD70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1676520" y="304920"/>
            <a:ext cx="540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5"/>
          <p:cNvSpPr/>
          <p:nvPr/>
        </p:nvSpPr>
        <p:spPr>
          <a:xfrm>
            <a:off x="304920" y="1269720"/>
            <a:ext cx="868644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following outcomes may be conclud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a function/price compromised solution to mitigate voltage sag especially at medium level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imulation of three phase DVR using SVPWM technique to control its inverter was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actically, the DVR can respond very fast to mitigate voltage sag (&lt;0.5 cycle) which is perfect for almost all sag sensitive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DC source capacity imposes a limitation on the restoration capability of the D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thank-you.jpg"/>
          <p:cNvPicPr/>
          <p:nvPr/>
        </p:nvPicPr>
        <p:blipFill>
          <a:blip r:embed="rId1"/>
          <a:stretch/>
        </p:blipFill>
        <p:spPr>
          <a:xfrm>
            <a:off x="1523880" y="1405080"/>
            <a:ext cx="60955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5"/>
          <p:cNvSpPr/>
          <p:nvPr/>
        </p:nvSpPr>
        <p:spPr>
          <a:xfrm>
            <a:off x="1600200" y="2042280"/>
            <a:ext cx="7314840" cy="90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68723277"/>
              </p:ext>
            </p:extLst>
          </p:nvPr>
        </p:nvGraphicFramePr>
        <p:xfrm>
          <a:off x="762120" y="1600200"/>
          <a:ext cx="7467120" cy="5257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7" name="Rounded Rectangle 20"/>
          <p:cNvSpPr/>
          <p:nvPr/>
        </p:nvSpPr>
        <p:spPr>
          <a:xfrm>
            <a:off x="4419720" y="304920"/>
            <a:ext cx="2666520" cy="914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8" name="Rounded Rectangle 21"/>
          <p:cNvSpPr/>
          <p:nvPr/>
        </p:nvSpPr>
        <p:spPr>
          <a:xfrm>
            <a:off x="2590920" y="380880"/>
            <a:ext cx="4266720" cy="91116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 w="9525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t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Power qual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owchart: Alternate Process 21"/>
          <p:cNvSpPr/>
          <p:nvPr/>
        </p:nvSpPr>
        <p:spPr>
          <a:xfrm>
            <a:off x="3352680" y="487692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owchart: Alternate Process 22"/>
          <p:cNvSpPr/>
          <p:nvPr/>
        </p:nvSpPr>
        <p:spPr>
          <a:xfrm>
            <a:off x="14479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quency var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Alternate Process 23"/>
          <p:cNvSpPr/>
          <p:nvPr/>
        </p:nvSpPr>
        <p:spPr>
          <a:xfrm>
            <a:off x="335268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e phase un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lowchart: Alternate Process 24"/>
          <p:cNvSpPr/>
          <p:nvPr/>
        </p:nvSpPr>
        <p:spPr>
          <a:xfrm>
            <a:off x="3352680" y="380988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fluct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wchart: Alternate Process 25"/>
          <p:cNvSpPr/>
          <p:nvPr/>
        </p:nvSpPr>
        <p:spPr>
          <a:xfrm>
            <a:off x="1447920" y="44956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rm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Alternate Process 26"/>
          <p:cNvSpPr/>
          <p:nvPr/>
        </p:nvSpPr>
        <p:spPr>
          <a:xfrm>
            <a:off x="1447920" y="51814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no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owchart: Alternate Process 27"/>
          <p:cNvSpPr/>
          <p:nvPr/>
        </p:nvSpPr>
        <p:spPr>
          <a:xfrm>
            <a:off x="1447920" y="38098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owchart: Alternate Process 28"/>
          <p:cNvSpPr/>
          <p:nvPr/>
        </p:nvSpPr>
        <p:spPr>
          <a:xfrm>
            <a:off x="53341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d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lowchart: Alternate Process 29"/>
          <p:cNvSpPr/>
          <p:nvPr/>
        </p:nvSpPr>
        <p:spPr>
          <a:xfrm>
            <a:off x="731520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ply inter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lowchart: Alternate Process 30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lowchart: Alternate Process 31"/>
          <p:cNvSpPr/>
          <p:nvPr/>
        </p:nvSpPr>
        <p:spPr>
          <a:xfrm>
            <a:off x="5334120" y="44956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lowchart: Alternate Process 32"/>
          <p:cNvSpPr/>
          <p:nvPr/>
        </p:nvSpPr>
        <p:spPr>
          <a:xfrm>
            <a:off x="5334120" y="53341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owchart: Alternate Process 33"/>
          <p:cNvSpPr/>
          <p:nvPr/>
        </p:nvSpPr>
        <p:spPr>
          <a:xfrm>
            <a:off x="7315200" y="365760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st voltag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lowchart: Alternate Process 34"/>
          <p:cNvSpPr/>
          <p:nvPr/>
        </p:nvSpPr>
        <p:spPr>
          <a:xfrm>
            <a:off x="7315200" y="449568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Elbow Connector 82"/>
          <p:cNvCxnSpPr>
            <a:endCxn id="187" idx="2"/>
          </p:cNvCxnSpPr>
          <p:nvPr/>
        </p:nvCxnSpPr>
        <p:spPr>
          <a:xfrm rot="10800000">
            <a:off x="3162240" y="2465640"/>
            <a:ext cx="38520" cy="48960"/>
          </a:xfrm>
          <a:prstGeom prst="bentConnector2">
            <a:avLst/>
          </a:prstGeom>
          <a:ln w="9525">
            <a:noFill/>
          </a:ln>
        </p:spPr>
      </p:cxnSp>
      <p:cxnSp>
        <p:nvCxnSpPr>
          <p:cNvPr id="188" name="_s1032"/>
          <p:cNvCxnSpPr/>
          <p:nvPr/>
        </p:nvCxnSpPr>
        <p:spPr>
          <a:xfrm flipV="1">
            <a:off x="3200400" y="1828440"/>
            <a:ext cx="262908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89" name="_s1032"/>
          <p:cNvCxnSpPr/>
          <p:nvPr/>
        </p:nvCxnSpPr>
        <p:spPr>
          <a:xfrm rot="10800000">
            <a:off x="4952520" y="1828440"/>
            <a:ext cx="205776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0" name="_s1032"/>
          <p:cNvCxnSpPr/>
          <p:nvPr/>
        </p:nvCxnSpPr>
        <p:spPr>
          <a:xfrm flipV="1">
            <a:off x="5105160" y="1676160"/>
            <a:ext cx="2160" cy="1530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1" name="Flowchart: Alternate Process 18"/>
          <p:cNvSpPr/>
          <p:nvPr/>
        </p:nvSpPr>
        <p:spPr>
          <a:xfrm>
            <a:off x="2971800" y="1143000"/>
            <a:ext cx="3962160" cy="4726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38100">
            <a:solidFill>
              <a:srgbClr val="c00000"/>
            </a:solidFill>
            <a:bevel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wer quality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owchart: Alternate Process 19"/>
          <p:cNvSpPr/>
          <p:nvPr/>
        </p:nvSpPr>
        <p:spPr>
          <a:xfrm>
            <a:off x="2362320" y="2057400"/>
            <a:ext cx="159984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_s1032"/>
          <p:cNvCxnSpPr>
            <a:stCxn id="177" idx="3"/>
            <a:endCxn id="187" idx="2"/>
          </p:cNvCxnSpPr>
          <p:nvPr/>
        </p:nvCxnSpPr>
        <p:spPr>
          <a:xfrm flipV="1">
            <a:off x="2971800" y="2466000"/>
            <a:ext cx="190800" cy="303912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3" name="_s1032"/>
          <p:cNvCxnSpPr>
            <a:stCxn id="183" idx="3"/>
          </p:cNvCxnSpPr>
          <p:nvPr/>
        </p:nvCxnSpPr>
        <p:spPr>
          <a:xfrm flipV="1">
            <a:off x="6858000" y="2438280"/>
            <a:ext cx="190800" cy="321948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4" name="Flowchart: Alternate Process 20"/>
          <p:cNvSpPr/>
          <p:nvPr/>
        </p:nvSpPr>
        <p:spPr>
          <a:xfrm>
            <a:off x="6400800" y="2057400"/>
            <a:ext cx="121896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_s1032"/>
          <p:cNvCxnSpPr>
            <a:stCxn id="182" idx="3"/>
            <a:endCxn id="185" idx="1"/>
          </p:cNvCxnSpPr>
          <p:nvPr/>
        </p:nvCxnSpPr>
        <p:spPr>
          <a:xfrm>
            <a:off x="6858000" y="4818960"/>
            <a:ext cx="457560" cy="136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6" name="_s1032"/>
          <p:cNvCxnSpPr>
            <a:stCxn id="173" idx="3"/>
            <a:endCxn id="174" idx="1"/>
          </p:cNvCxnSpPr>
          <p:nvPr/>
        </p:nvCxnSpPr>
        <p:spPr>
          <a:xfrm>
            <a:off x="2971800" y="3142800"/>
            <a:ext cx="38124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7" name="_s1032"/>
          <p:cNvCxnSpPr>
            <a:endCxn id="175" idx="1"/>
          </p:cNvCxnSpPr>
          <p:nvPr/>
        </p:nvCxnSpPr>
        <p:spPr>
          <a:xfrm>
            <a:off x="2971800" y="4038480"/>
            <a:ext cx="381240" cy="9504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8" name="_s1032"/>
          <p:cNvCxnSpPr>
            <a:stCxn id="176" idx="3"/>
            <a:endCxn id="172" idx="1"/>
          </p:cNvCxnSpPr>
          <p:nvPr/>
        </p:nvCxnSpPr>
        <p:spPr>
          <a:xfrm>
            <a:off x="2971800" y="4682880"/>
            <a:ext cx="381240" cy="6537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9" name="_s1032"/>
          <p:cNvCxnSpPr>
            <a:stCxn id="179" idx="3"/>
            <a:endCxn id="180" idx="1"/>
          </p:cNvCxnSpPr>
          <p:nvPr/>
        </p:nvCxnSpPr>
        <p:spPr>
          <a:xfrm>
            <a:off x="6858000" y="3142800"/>
            <a:ext cx="45756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200" name="_s1032"/>
          <p:cNvCxnSpPr>
            <a:stCxn id="181" idx="3"/>
            <a:endCxn id="184" idx="1"/>
          </p:cNvCxnSpPr>
          <p:nvPr/>
        </p:nvCxnSpPr>
        <p:spPr>
          <a:xfrm>
            <a:off x="6858000" y="3980880"/>
            <a:ext cx="457560" cy="21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201" name="Flowchart: Alternate Process 148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c84c93"/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-304920" y="2286000"/>
            <a:ext cx="3200040" cy="3838320"/>
          </a:xfrm>
          <a:prstGeom prst="rect">
            <a:avLst/>
          </a:prstGeom>
          <a:ln w="9525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29528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0.5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09680" y="60339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3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97180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666880" y="3214800"/>
            <a:ext cx="18284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676520" y="5729400"/>
            <a:ext cx="106632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momen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905120" y="420516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14600" y="572940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tempo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05320" y="5729400"/>
            <a:ext cx="19047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Sustained interru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81280" y="428148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Und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581280" y="245268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Ov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828800" y="222408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 rot="16200000">
            <a:off x="775800" y="455688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tch/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8080" y="55767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838080" y="344340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38080" y="30621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87"/>
          <p:cNvCxnSpPr/>
          <p:nvPr/>
        </p:nvCxnSpPr>
        <p:spPr>
          <a:xfrm>
            <a:off x="1447560" y="6033960"/>
            <a:ext cx="3886560" cy="1800"/>
          </a:xfrm>
          <a:prstGeom prst="bentConnector2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Elbow Connector 88"/>
          <p:cNvCxnSpPr/>
          <p:nvPr/>
        </p:nvCxnSpPr>
        <p:spPr>
          <a:xfrm flipV="1">
            <a:off x="1447560" y="2147760"/>
            <a:ext cx="2160" cy="3886560"/>
          </a:xfrm>
          <a:prstGeom prst="bentConnector2">
            <a:avLst/>
          </a:prstGeom>
          <a:ln w="3175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Text Box 6"/>
          <p:cNvSpPr/>
          <p:nvPr/>
        </p:nvSpPr>
        <p:spPr>
          <a:xfrm rot="16200000">
            <a:off x="791280" y="233280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267080" y="6057720"/>
            <a:ext cx="990360" cy="7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Even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676520" y="1447920"/>
            <a:ext cx="3200040" cy="65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IEEE standard 1159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7E8187F-59F2-40F2-BE4A-EB0968697C7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4E42F37-FC32-49D7-9A1B-EA2057B702A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9144000" y="419112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chemeClr val="hlink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oltage sag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1143000" y="2514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tor-generator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838080" y="4800600"/>
            <a:ext cx="30477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ctronic tap cha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6095880" y="2514600"/>
            <a:ext cx="3047760" cy="116172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nterruptable Power Supply (U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24"/>
          <p:cNvCxnSpPr>
            <a:stCxn id="234" idx="2"/>
            <a:endCxn id="229" idx="0"/>
          </p:cNvCxnSpPr>
          <p:nvPr/>
        </p:nvCxnSpPr>
        <p:spPr>
          <a:xfrm flipH="1">
            <a:off x="25905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5" name="Straight Arrow Connector 28"/>
          <p:cNvCxnSpPr>
            <a:stCxn id="234" idx="2"/>
            <a:endCxn id="230" idx="0"/>
          </p:cNvCxnSpPr>
          <p:nvPr/>
        </p:nvCxnSpPr>
        <p:spPr>
          <a:xfrm flipH="1">
            <a:off x="2361960" y="1979280"/>
            <a:ext cx="2743560" cy="2821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6" name="Straight Arrow Connector 31"/>
          <p:cNvCxnSpPr>
            <a:stCxn id="234" idx="2"/>
            <a:endCxn id="232" idx="0"/>
          </p:cNvCxnSpPr>
          <p:nvPr/>
        </p:nvCxnSpPr>
        <p:spPr>
          <a:xfrm>
            <a:off x="5105160" y="1979280"/>
            <a:ext cx="2019600" cy="289764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7" name="Straight Arrow Connector 34"/>
          <p:cNvCxnSpPr>
            <a:stCxn id="234" idx="2"/>
            <a:endCxn id="231" idx="0"/>
          </p:cNvCxnSpPr>
          <p:nvPr/>
        </p:nvCxnSpPr>
        <p:spPr>
          <a:xfrm>
            <a:off x="51051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4" name="Horizontal Scroll 37"/>
          <p:cNvSpPr/>
          <p:nvPr/>
        </p:nvSpPr>
        <p:spPr>
          <a:xfrm>
            <a:off x="3200400" y="1066680"/>
            <a:ext cx="3809520" cy="1006200"/>
          </a:xfrm>
          <a:prstGeom prst="horizontalScroll">
            <a:avLst>
              <a:gd name="adj" fmla="val 12500"/>
            </a:avLst>
          </a:prstGeom>
          <a:solidFill>
            <a:srgbClr val="ffc000">
              <a:alpha val="65000"/>
            </a:srgbClr>
          </a:solidFill>
          <a:ln w="349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igatio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3276720" y="3657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VAR compens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30"/>
          <p:cNvCxnSpPr>
            <a:stCxn id="234" idx="2"/>
            <a:endCxn id="238" idx="0"/>
          </p:cNvCxnSpPr>
          <p:nvPr/>
        </p:nvCxnSpPr>
        <p:spPr>
          <a:xfrm flipH="1">
            <a:off x="4724280" y="1979280"/>
            <a:ext cx="381240" cy="1678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87A200E-9300-4811-AC01-9EEAE2A0B8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08BD90D-0D48-4C4F-8D02-0AE0A867C8C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1BD07B4-195B-44A8-A225-95A677CD20C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D33BCEE-F971-4CE3-A89E-23C91E0E4C8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A5AEC1A-2ABC-4DB1-8BB3-F05D6888B36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79D7399-A969-4FB5-9B17-EA116FB8320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1B79DE8-6538-4EE3-A360-72F86F4A861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49" name="Oval 19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Process 21"/>
          <p:cNvSpPr/>
          <p:nvPr/>
        </p:nvSpPr>
        <p:spPr>
          <a:xfrm>
            <a:off x="1523880" y="2743200"/>
            <a:ext cx="990360" cy="105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Process 22"/>
          <p:cNvSpPr/>
          <p:nvPr/>
        </p:nvSpPr>
        <p:spPr>
          <a:xfrm>
            <a:off x="6934320" y="2743200"/>
            <a:ext cx="1447560" cy="30420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mal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owchart: Process 23"/>
          <p:cNvSpPr/>
          <p:nvPr/>
        </p:nvSpPr>
        <p:spPr>
          <a:xfrm>
            <a:off x="6934320" y="3657600"/>
            <a:ext cx="1447560" cy="60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lowchart: Process 45"/>
          <p:cNvSpPr/>
          <p:nvPr/>
        </p:nvSpPr>
        <p:spPr>
          <a:xfrm>
            <a:off x="3276720" y="2895480"/>
            <a:ext cx="45360" cy="784440"/>
          </a:xfrm>
          <a:prstGeom prst="flowChartProcess">
            <a:avLst/>
          </a:prstGeom>
          <a:solidFill>
            <a:schemeClr val="tx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Straight Connector 47"/>
          <p:cNvCxnSpPr>
            <a:stCxn id="250" idx="3"/>
            <a:endCxn id="253" idx="1"/>
          </p:cNvCxnSpPr>
          <p:nvPr/>
        </p:nvCxnSpPr>
        <p:spPr>
          <a:xfrm flipV="1">
            <a:off x="2514600" y="3287880"/>
            <a:ext cx="762120" cy="936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255" name="Elbow Connector 50"/>
          <p:cNvCxnSpPr>
            <a:endCxn id="251" idx="1"/>
          </p:cNvCxnSpPr>
          <p:nvPr/>
        </p:nvCxnSpPr>
        <p:spPr>
          <a:xfrm flipV="1">
            <a:off x="3276360" y="2896920"/>
            <a:ext cx="3657960" cy="2275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56" name="Flowchart: Process 54"/>
          <p:cNvSpPr/>
          <p:nvPr/>
        </p:nvSpPr>
        <p:spPr>
          <a:xfrm>
            <a:off x="3429000" y="39625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lowchart: Process 55"/>
          <p:cNvSpPr/>
          <p:nvPr/>
        </p:nvSpPr>
        <p:spPr>
          <a:xfrm>
            <a:off x="3429000" y="457200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Process 56"/>
          <p:cNvSpPr/>
          <p:nvPr/>
        </p:nvSpPr>
        <p:spPr>
          <a:xfrm>
            <a:off x="3429000" y="518148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lowchart: Process 57"/>
          <p:cNvSpPr/>
          <p:nvPr/>
        </p:nvSpPr>
        <p:spPr>
          <a:xfrm>
            <a:off x="34290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lowchart: Process 58"/>
          <p:cNvSpPr/>
          <p:nvPr/>
        </p:nvSpPr>
        <p:spPr>
          <a:xfrm>
            <a:off x="167652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lowchart: Process 59"/>
          <p:cNvSpPr/>
          <p:nvPr/>
        </p:nvSpPr>
        <p:spPr>
          <a:xfrm>
            <a:off x="52578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Elbow Connector 61"/>
          <p:cNvCxnSpPr>
            <a:endCxn id="252" idx="1"/>
          </p:cNvCxnSpPr>
          <p:nvPr/>
        </p:nvCxnSpPr>
        <p:spPr>
          <a:xfrm>
            <a:off x="3276360" y="3503520"/>
            <a:ext cx="3657960" cy="46980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63" name="Flowchart: Process 60"/>
          <p:cNvSpPr/>
          <p:nvPr/>
        </p:nvSpPr>
        <p:spPr>
          <a:xfrm>
            <a:off x="5257800" y="3657600"/>
            <a:ext cx="1447560" cy="606240"/>
          </a:xfrm>
          <a:prstGeom prst="flowChartProcess">
            <a:avLst/>
          </a:prstGeom>
          <a:solidFill>
            <a:schemeClr val="bg1"/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j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fo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74"/>
          <p:cNvCxnSpPr>
            <a:stCxn id="256" idx="2"/>
            <a:endCxn id="257" idx="0"/>
          </p:cNvCxnSpPr>
          <p:nvPr/>
        </p:nvCxnSpPr>
        <p:spPr>
          <a:xfrm flipH="1">
            <a:off x="4151880" y="4270680"/>
            <a:ext cx="2160" cy="3024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78"/>
          <p:cNvCxnSpPr>
            <a:stCxn id="257" idx="2"/>
            <a:endCxn id="258" idx="0"/>
          </p:cNvCxnSpPr>
          <p:nvPr/>
        </p:nvCxnSpPr>
        <p:spPr>
          <a:xfrm flipH="1">
            <a:off x="4151880" y="488052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81"/>
          <p:cNvCxnSpPr>
            <a:stCxn id="258" idx="2"/>
            <a:endCxn id="259" idx="0"/>
          </p:cNvCxnSpPr>
          <p:nvPr/>
        </p:nvCxnSpPr>
        <p:spPr>
          <a:xfrm flipH="1">
            <a:off x="4151880" y="549000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85"/>
          <p:cNvCxnSpPr>
            <a:stCxn id="260" idx="3"/>
            <a:endCxn id="259" idx="1"/>
          </p:cNvCxnSpPr>
          <p:nvPr/>
        </p:nvCxnSpPr>
        <p:spPr>
          <a:xfrm>
            <a:off x="3124080" y="594504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88"/>
          <p:cNvCxnSpPr>
            <a:stCxn id="259" idx="3"/>
            <a:endCxn id="261" idx="1"/>
          </p:cNvCxnSpPr>
          <p:nvPr/>
        </p:nvCxnSpPr>
        <p:spPr>
          <a:xfrm>
            <a:off x="4876560" y="594504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91"/>
          <p:cNvCxnSpPr>
            <a:stCxn id="261" idx="0"/>
            <a:endCxn id="263" idx="2"/>
          </p:cNvCxnSpPr>
          <p:nvPr/>
        </p:nvCxnSpPr>
        <p:spPr>
          <a:xfrm flipV="1">
            <a:off x="5980680" y="4289040"/>
            <a:ext cx="2160" cy="15030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97"/>
          <p:cNvCxnSpPr/>
          <p:nvPr/>
        </p:nvCxnSpPr>
        <p:spPr>
          <a:xfrm>
            <a:off x="4114800" y="3504960"/>
            <a:ext cx="360" cy="4546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Elbow Connector 101"/>
          <p:cNvCxnSpPr/>
          <p:nvPr/>
        </p:nvCxnSpPr>
        <p:spPr>
          <a:xfrm flipV="1">
            <a:off x="3047760" y="3429000"/>
            <a:ext cx="3810600" cy="30492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2" name="Elbow Connector 104"/>
          <p:cNvCxnSpPr/>
          <p:nvPr/>
        </p:nvCxnSpPr>
        <p:spPr>
          <a:xfrm flipV="1" rot="10800000">
            <a:off x="6858000" y="3428640"/>
            <a:ext cx="1800" cy="289584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3" name="Elbow Connector 108"/>
          <p:cNvCxnSpPr/>
          <p:nvPr/>
        </p:nvCxnSpPr>
        <p:spPr>
          <a:xfrm flipV="1" rot="10800000">
            <a:off x="1523880" y="3733200"/>
            <a:ext cx="1526040" cy="259128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4" name="Elbow Connector 111"/>
          <p:cNvCxnSpPr/>
          <p:nvPr/>
        </p:nvCxnSpPr>
        <p:spPr>
          <a:xfrm rot="10800000">
            <a:off x="1523520" y="6324480"/>
            <a:ext cx="5334480" cy="180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sp>
        <p:nvSpPr>
          <p:cNvPr id="275" name="TextBox 116"/>
          <p:cNvSpPr/>
          <p:nvPr/>
        </p:nvSpPr>
        <p:spPr>
          <a:xfrm>
            <a:off x="6937920" y="487692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D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066680" y="380880"/>
            <a:ext cx="79243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ucture of Dynamic Voltage Rest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1"/>
          <p:cNvGrpSpPr/>
          <p:nvPr/>
        </p:nvGrpSpPr>
        <p:grpSpPr>
          <a:xfrm>
            <a:off x="1523880" y="3456360"/>
            <a:ext cx="5333760" cy="2852640"/>
            <a:chOff x="1523880" y="3456360"/>
            <a:chExt cx="5333760" cy="2852640"/>
          </a:xfrm>
        </p:grpSpPr>
        <p:sp>
          <p:nvSpPr>
            <p:cNvPr id="278" name="Rectangle 46"/>
            <p:cNvSpPr/>
            <p:nvPr/>
          </p:nvSpPr>
          <p:spPr>
            <a:xfrm>
              <a:off x="1523880" y="5394960"/>
              <a:ext cx="1523520" cy="91404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79" name="Rectangle 49"/>
            <p:cNvSpPr/>
            <p:nvPr/>
          </p:nvSpPr>
          <p:spPr>
            <a:xfrm>
              <a:off x="4983480" y="3456360"/>
              <a:ext cx="1874160" cy="29232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3048120" y="3749040"/>
              <a:ext cx="3809520" cy="255996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21667 -0.52662 E">
                                      <p:cBhvr>
                                        <p:cTn id="31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E108C08-96D6-464F-9B77-EEFC196376B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CD5C16C-DDFD-4A71-8E19-88B12600439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4A01553-EB2E-4669-82CF-E112E2B71DE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ABF91B0-C6E3-4C88-AAC5-DE4DFA14445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E3AF38A-B233-481C-91A0-219B5C29727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E453192-3E46-4237-B5FD-1B0EED87CCE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1CE464E3-6A47-4776-BCDE-16E1E9D09DF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7210F44-9FAE-4CF2-A5FE-2A486609F8E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1600200" y="2286000"/>
            <a:ext cx="7314840" cy="251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Tahoma"/>
              </a:rPr>
              <a:t>DVR Design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601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ahoma"/>
              </a:rPr>
              <a:t>The design procedure can be divided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power 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93B2CAD-DDE5-4482-9E88-2D50A8845DD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0FD515C-8CDE-44D2-9D04-951AA8D9A45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630ECB2-4ED4-4A39-8CBA-B4EEAA997BC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A11B4DB-ED1D-4AA7-B127-3E33EEEB1DA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CBD7783-CBE8-4ADA-BB65-F4D6B298F95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514C7D2-ADC4-4170-99E9-20BC4927388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AC1F6F1-218A-47F1-8F77-CB5ED7A9222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AAFFAC71-31D3-48AE-B426-1A96A8AAB32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C058A3A0-3C97-4FB3-8645-914D3DC3A24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609480" y="990720"/>
            <a:ext cx="822924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ower circuit is composed of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jection transfo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C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ounded Rectangular Callout 129"/>
          <p:cNvSpPr/>
          <p:nvPr/>
        </p:nvSpPr>
        <p:spPr>
          <a:xfrm>
            <a:off x="1447920" y="1676520"/>
            <a:ext cx="7467120" cy="998640"/>
          </a:xfrm>
          <a:prstGeom prst="wedgeRoundRectCallout">
            <a:avLst>
              <a:gd name="adj1" fmla="val 44953"/>
              <a:gd name="adj2" fmla="val 35657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2- adjusting the proper firing pul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for the i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447920" y="914400"/>
            <a:ext cx="769572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ler has two main job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ular Callout 128"/>
          <p:cNvSpPr/>
          <p:nvPr/>
        </p:nvSpPr>
        <p:spPr>
          <a:xfrm>
            <a:off x="1523880" y="1295280"/>
            <a:ext cx="5409720" cy="472680"/>
          </a:xfrm>
          <a:prstGeom prst="wedgeRoundRectCallout">
            <a:avLst>
              <a:gd name="adj1" fmla="val 1154"/>
              <a:gd name="adj2" fmla="val 33920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1- Sensing the sag occur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2"/>
          <p:cNvSpPr/>
          <p:nvPr/>
        </p:nvSpPr>
        <p:spPr>
          <a:xfrm>
            <a:off x="7351920" y="4114800"/>
            <a:ext cx="741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5D1BB31-1357-4532-8046-8C79A9615B6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8372AB0-39B9-418A-AC84-EED710581FC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9292533-FAC6-4025-AD84-E8B6CA79017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0AFC832-FFB8-4073-845B-8468229D84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78D4066-EBB0-4BE4-977B-05A75BBE86E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129E843-3F48-43B4-B75D-51BF24CF8D9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E650706-396D-4D52-B78F-D83837B4C8E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8497D9C5-50A7-4A3C-A525-00F49ABF701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he control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Process 24"/>
          <p:cNvSpPr/>
          <p:nvPr/>
        </p:nvSpPr>
        <p:spPr>
          <a:xfrm>
            <a:off x="22860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Process 25"/>
          <p:cNvSpPr/>
          <p:nvPr/>
        </p:nvSpPr>
        <p:spPr>
          <a:xfrm>
            <a:off x="36576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lowchart: Process 26"/>
          <p:cNvSpPr/>
          <p:nvPr/>
        </p:nvSpPr>
        <p:spPr>
          <a:xfrm>
            <a:off x="4648320" y="45720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lowchart: Process 27"/>
          <p:cNvSpPr/>
          <p:nvPr/>
        </p:nvSpPr>
        <p:spPr>
          <a:xfrm>
            <a:off x="5486400" y="50292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owchart: Summing Junction 30"/>
          <p:cNvSpPr/>
          <p:nvPr/>
        </p:nvSpPr>
        <p:spPr>
          <a:xfrm>
            <a:off x="5257800" y="312408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32" name="Flowchart: Process 31"/>
          <p:cNvSpPr/>
          <p:nvPr/>
        </p:nvSpPr>
        <p:spPr>
          <a:xfrm>
            <a:off x="66294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q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lowchart: Process 32"/>
          <p:cNvSpPr/>
          <p:nvPr/>
        </p:nvSpPr>
        <p:spPr>
          <a:xfrm>
            <a:off x="784872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/√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lowchart: Process 33"/>
          <p:cNvSpPr/>
          <p:nvPr/>
        </p:nvSpPr>
        <p:spPr>
          <a:xfrm>
            <a:off x="7848720" y="457200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VPW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35"/>
          <p:cNvCxnSpPr/>
          <p:nvPr/>
        </p:nvCxnSpPr>
        <p:spPr>
          <a:xfrm>
            <a:off x="4647960" y="3352680"/>
            <a:ext cx="6102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Straight Arrow Connector 38"/>
          <p:cNvCxnSpPr/>
          <p:nvPr/>
        </p:nvCxnSpPr>
        <p:spPr>
          <a:xfrm>
            <a:off x="1828800" y="358128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Straight Arrow Connector 39"/>
          <p:cNvCxnSpPr/>
          <p:nvPr/>
        </p:nvCxnSpPr>
        <p:spPr>
          <a:xfrm>
            <a:off x="1828800" y="3276360"/>
            <a:ext cx="457560" cy="2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Straight Arrow Connector 40"/>
          <p:cNvCxnSpPr/>
          <p:nvPr/>
        </p:nvCxnSpPr>
        <p:spPr>
          <a:xfrm>
            <a:off x="1828800" y="388620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Straight Arrow Connector 43"/>
          <p:cNvCxnSpPr/>
          <p:nvPr/>
        </p:nvCxnSpPr>
        <p:spPr>
          <a:xfrm>
            <a:off x="3276360" y="335268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Straight Arrow Connector 45"/>
          <p:cNvCxnSpPr/>
          <p:nvPr/>
        </p:nvCxnSpPr>
        <p:spPr>
          <a:xfrm>
            <a:off x="3276360" y="388620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Straight Arrow Connector 59"/>
          <p:cNvCxnSpPr/>
          <p:nvPr/>
        </p:nvCxnSpPr>
        <p:spPr>
          <a:xfrm>
            <a:off x="4647960" y="388620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Straight Arrow Connector 61"/>
          <p:cNvCxnSpPr/>
          <p:nvPr/>
        </p:nvCxnSpPr>
        <p:spPr>
          <a:xfrm flipH="1">
            <a:off x="5410080" y="2438280"/>
            <a:ext cx="1800" cy="686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Flowchart: Summing Junction 63"/>
          <p:cNvSpPr/>
          <p:nvPr/>
        </p:nvSpPr>
        <p:spPr>
          <a:xfrm>
            <a:off x="5638680" y="365760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cxnSp>
        <p:nvCxnSpPr>
          <p:cNvPr id="344" name="Straight Arrow Connector 64"/>
          <p:cNvCxnSpPr/>
          <p:nvPr/>
        </p:nvCxnSpPr>
        <p:spPr>
          <a:xfrm flipH="1">
            <a:off x="5790240" y="3047760"/>
            <a:ext cx="1080" cy="610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Straight Arrow Connector 66"/>
          <p:cNvCxnSpPr/>
          <p:nvPr/>
        </p:nvCxnSpPr>
        <p:spPr>
          <a:xfrm>
            <a:off x="5562360" y="3352680"/>
            <a:ext cx="10674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Straight Arrow Connector 70"/>
          <p:cNvCxnSpPr/>
          <p:nvPr/>
        </p:nvCxnSpPr>
        <p:spPr>
          <a:xfrm>
            <a:off x="5943600" y="388620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Straight Arrow Connector 73"/>
          <p:cNvCxnSpPr/>
          <p:nvPr/>
        </p:nvCxnSpPr>
        <p:spPr>
          <a:xfrm flipH="1">
            <a:off x="80010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Straight Arrow Connector 76"/>
          <p:cNvCxnSpPr/>
          <p:nvPr/>
        </p:nvCxnSpPr>
        <p:spPr>
          <a:xfrm flipH="1">
            <a:off x="5180760" y="3886920"/>
            <a:ext cx="1800" cy="6854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Straight Arrow Connector 78"/>
          <p:cNvCxnSpPr/>
          <p:nvPr/>
        </p:nvCxnSpPr>
        <p:spPr>
          <a:xfrm flipH="1">
            <a:off x="5181480" y="4876560"/>
            <a:ext cx="1080" cy="3052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Straight Arrow Connector 81"/>
          <p:cNvCxnSpPr/>
          <p:nvPr/>
        </p:nvCxnSpPr>
        <p:spPr>
          <a:xfrm>
            <a:off x="4190760" y="518148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351" name="Straight Arrow Connector 82"/>
          <p:cNvCxnSpPr/>
          <p:nvPr/>
        </p:nvCxnSpPr>
        <p:spPr>
          <a:xfrm flipH="1">
            <a:off x="41907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2" name="Straight Arrow Connector 85"/>
          <p:cNvCxnSpPr/>
          <p:nvPr/>
        </p:nvCxnSpPr>
        <p:spPr>
          <a:xfrm>
            <a:off x="5181480" y="518148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Straight Arrow Connector 86"/>
          <p:cNvCxnSpPr/>
          <p:nvPr/>
        </p:nvCxnSpPr>
        <p:spPr>
          <a:xfrm>
            <a:off x="6476760" y="518148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88"/>
          <p:cNvCxnSpPr/>
          <p:nvPr/>
        </p:nvCxnSpPr>
        <p:spPr>
          <a:xfrm flipH="1">
            <a:off x="71625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5" name="Straight Arrow Connector 89"/>
          <p:cNvCxnSpPr/>
          <p:nvPr/>
        </p:nvCxnSpPr>
        <p:spPr>
          <a:xfrm>
            <a:off x="7619760" y="335268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91"/>
          <p:cNvCxnSpPr/>
          <p:nvPr/>
        </p:nvCxnSpPr>
        <p:spPr>
          <a:xfrm>
            <a:off x="7619760" y="388620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Straight Arrow Connector 92"/>
          <p:cNvCxnSpPr/>
          <p:nvPr/>
        </p:nvCxnSpPr>
        <p:spPr>
          <a:xfrm flipH="1">
            <a:off x="861048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Straight Arrow Connector 95"/>
          <p:cNvCxnSpPr/>
          <p:nvPr/>
        </p:nvCxnSpPr>
        <p:spPr>
          <a:xfrm flipH="1">
            <a:off x="807696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Straight Arrow Connector 97"/>
          <p:cNvCxnSpPr/>
          <p:nvPr/>
        </p:nvCxnSpPr>
        <p:spPr>
          <a:xfrm flipH="1">
            <a:off x="81532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Straight Arrow Connector 98"/>
          <p:cNvCxnSpPr/>
          <p:nvPr/>
        </p:nvCxnSpPr>
        <p:spPr>
          <a:xfrm flipH="1">
            <a:off x="83055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Straight Arrow Connector 99"/>
          <p:cNvCxnSpPr/>
          <p:nvPr/>
        </p:nvCxnSpPr>
        <p:spPr>
          <a:xfrm flipH="1">
            <a:off x="84582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Straight Arrow Connector 100"/>
          <p:cNvCxnSpPr/>
          <p:nvPr/>
        </p:nvCxnSpPr>
        <p:spPr>
          <a:xfrm flipH="1">
            <a:off x="86104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Straight Arrow Connector 101"/>
          <p:cNvCxnSpPr/>
          <p:nvPr/>
        </p:nvCxnSpPr>
        <p:spPr>
          <a:xfrm flipH="1">
            <a:off x="87627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TextBox 104"/>
          <p:cNvSpPr/>
          <p:nvPr/>
        </p:nvSpPr>
        <p:spPr>
          <a:xfrm>
            <a:off x="1445760" y="3048120"/>
            <a:ext cx="411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06"/>
          <p:cNvSpPr/>
          <p:nvPr/>
        </p:nvSpPr>
        <p:spPr>
          <a:xfrm>
            <a:off x="1456560" y="335268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7"/>
          <p:cNvSpPr/>
          <p:nvPr/>
        </p:nvSpPr>
        <p:spPr>
          <a:xfrm>
            <a:off x="1455480" y="3657600"/>
            <a:ext cx="405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08"/>
          <p:cNvSpPr/>
          <p:nvPr/>
        </p:nvSpPr>
        <p:spPr>
          <a:xfrm>
            <a:off x="3286080" y="297180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9"/>
          <p:cNvSpPr/>
          <p:nvPr/>
        </p:nvSpPr>
        <p:spPr>
          <a:xfrm>
            <a:off x="3286080" y="350532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10"/>
          <p:cNvSpPr/>
          <p:nvPr/>
        </p:nvSpPr>
        <p:spPr>
          <a:xfrm>
            <a:off x="4656960" y="2971800"/>
            <a:ext cx="418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1"/>
          <p:cNvSpPr/>
          <p:nvPr/>
        </p:nvSpPr>
        <p:spPr>
          <a:xfrm>
            <a:off x="4656960" y="350532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2"/>
          <p:cNvSpPr/>
          <p:nvPr/>
        </p:nvSpPr>
        <p:spPr>
          <a:xfrm>
            <a:off x="3888000" y="4191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3"/>
          <p:cNvSpPr/>
          <p:nvPr/>
        </p:nvSpPr>
        <p:spPr>
          <a:xfrm>
            <a:off x="5132160" y="205740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4"/>
          <p:cNvSpPr/>
          <p:nvPr/>
        </p:nvSpPr>
        <p:spPr>
          <a:xfrm>
            <a:off x="5513040" y="259092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6"/>
          <p:cNvSpPr/>
          <p:nvPr/>
        </p:nvSpPr>
        <p:spPr>
          <a:xfrm>
            <a:off x="5971320" y="297180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17"/>
          <p:cNvSpPr/>
          <p:nvPr/>
        </p:nvSpPr>
        <p:spPr>
          <a:xfrm>
            <a:off x="5971320" y="350532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21"/>
          <p:cNvSpPr/>
          <p:nvPr/>
        </p:nvSpPr>
        <p:spPr>
          <a:xfrm>
            <a:off x="8153280" y="4114800"/>
            <a:ext cx="81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3"/>
          <p:cNvSpPr/>
          <p:nvPr/>
        </p:nvSpPr>
        <p:spPr>
          <a:xfrm>
            <a:off x="7248240" y="6095880"/>
            <a:ext cx="188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ing pul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lowchart: Connector 130"/>
          <p:cNvSpPr/>
          <p:nvPr/>
        </p:nvSpPr>
        <p:spPr>
          <a:xfrm>
            <a:off x="5867280" y="2971800"/>
            <a:ext cx="761760" cy="389160"/>
          </a:xfrm>
          <a:prstGeom prst="flowChartConnector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79" name="Oval Callout 131"/>
          <p:cNvSpPr/>
          <p:nvPr/>
        </p:nvSpPr>
        <p:spPr>
          <a:xfrm>
            <a:off x="6019920" y="2133720"/>
            <a:ext cx="2971440" cy="905400"/>
          </a:xfrm>
          <a:prstGeom prst="wedgeEllipseCallout">
            <a:avLst>
              <a:gd name="adj1" fmla="val -36859"/>
              <a:gd name="adj2" fmla="val 106516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Sag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Callout 132"/>
          <p:cNvSpPr/>
          <p:nvPr/>
        </p:nvSpPr>
        <p:spPr>
          <a:xfrm>
            <a:off x="3048120" y="5486400"/>
            <a:ext cx="2971440" cy="905400"/>
          </a:xfrm>
          <a:prstGeom prst="wedgeEllipseCallout">
            <a:avLst>
              <a:gd name="adj1" fmla="val 109615"/>
              <a:gd name="adj2" fmla="val -73218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adjusting firing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Callout 79"/>
          <p:cNvSpPr/>
          <p:nvPr/>
        </p:nvSpPr>
        <p:spPr>
          <a:xfrm>
            <a:off x="1600200" y="1981080"/>
            <a:ext cx="2971440" cy="905400"/>
          </a:xfrm>
          <a:prstGeom prst="wedgeEllipseCallout">
            <a:avLst>
              <a:gd name="adj1" fmla="val 71386"/>
              <a:gd name="adj2" fmla="val -17549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mag.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Callout 80"/>
          <p:cNvSpPr/>
          <p:nvPr/>
        </p:nvSpPr>
        <p:spPr>
          <a:xfrm>
            <a:off x="1600200" y="4419720"/>
            <a:ext cx="2971440" cy="905400"/>
          </a:xfrm>
          <a:prstGeom prst="wedgeEllipseCallout">
            <a:avLst>
              <a:gd name="adj1" fmla="val 81154"/>
              <a:gd name="adj2" fmla="val 20778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phas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6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46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2"/>
          <p:cNvSpPr/>
          <p:nvPr/>
        </p:nvSpPr>
        <p:spPr>
          <a:xfrm>
            <a:off x="1447920" y="990720"/>
            <a:ext cx="7695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following data are the same for the simulation and the practical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= 110 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ine to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Z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1.3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: three phase balanced load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ter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L = 370 µ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C = 90 µ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jection transfor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urns ratio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: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ting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45V, 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C source for the inverter: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dc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7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12ADF98-2239-4CD6-BC0A-3EDFC39F774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1157EDA-4FF1-4DD4-9BB1-6A9694DE493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CC3CB32-BF0A-403E-9C78-B390381EA88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221C296-8440-48F5-A116-D58679055F8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90CA9ED-61D1-4229-BCF2-ED4C4E7E1B9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A888173-5EC6-4241-A20D-3CD7418EAF5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7107C346-86EE-4ADD-9165-4CAE6C774DF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3C2EF90E-DA20-416B-84E7-7DD11FD3EF9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est syste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8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00"/>
                            </p:stCondLst>
                            <p:childTnLst>
                              <p:par>
                                <p:cTn id="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2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0</TotalTime>
  <Application>LibreOffice/7.4.7.2$Linux_X86_64 LibreOffice_project/40$Build-2</Application>
  <AppVersion>15.0000</AppVersion>
  <Words>632</Words>
  <Paragraphs>3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1:32:56Z</dcterms:created>
  <dc:creator>eng. sherif</dc:creator>
  <dc:description/>
  <dc:language>en-US</dc:language>
  <cp:lastModifiedBy>Brigade</cp:lastModifiedBy>
  <dcterms:modified xsi:type="dcterms:W3CDTF">2011-08-25T06:23:14Z</dcterms:modified>
  <cp:revision>1408</cp:revision>
  <dc:subject/>
  <dc:title>DV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